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403-D28A-4003-9730-FDE6930A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F02-A394-408E-8590-316FC99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8A7-506F-425E-9446-7EE26C64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FCD-360B-4AF0-838A-A35E1CF7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D4A-5C95-4965-983C-6AE5ED8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DA1-BE9B-4621-957E-A9880C1F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B3A-1C2C-43E6-B1D7-7E9BD61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1E6-16EA-4624-B26D-D3AEACF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E5D-C9D3-4558-914E-4AFC51D5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4DD-11D7-45D7-84C7-00060A7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E3F-DE5E-48CD-97AF-C76B417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D35-A93C-47B4-B7AE-D83D0C33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F0A0-9110-4094-A384-17BE14AF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НАСЫЩЕННЫЕ УГЛЕВОДОРОД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АЛКЕНЫ, АЛКАДИЕНЫ, АЛКИНЫ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жнение изомерии непредельных углеводородов обусловлено тем, что наряду 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зомерией углеродной цеп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ля них характерн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зомерия положения двойной связ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Для высших гомологов этиленовых углеводородов различие в числе изомеров по сравнению с предельными углеводородами с тем же числом углеродных атомов еще бол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ис –транс  изоме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яду этиленовых углеводородов встречается еще один вид изомерии, который связан с различием в пространственном строении некоторых молекул, имеющих двойную  связ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лекулах с двойной связью между вторым и третьим углеродными атомами обе метильные группы могут располагаться в пространстве двояким способом: по одну сторону плоскости двойной связи и по обе стороны от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5176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йная связь препятствует вращению соединенных ею атомов вокруг линии связи. Поэтому строение молекул изомеров в пространстве зафиксиров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метильными группами  в каждой из них различно, и, следовательно, размеры этих молекул неодинако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е различие в пространственном строении приводит к различию в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омерия, которая основана на различном пространственном расположении атомов или групп атомов, соединенных двойной связью, называется цис–транс  изомери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соответствующие изомеры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с–транс изомер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 из них, в которых различные  группы атомов расположе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одну сторону плоскости двойной свя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с-изомер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е, в которых группы атомо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авлены в разные сторо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ранс-изомер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я отдельных гомологов этиленовых углеводородов производят от названий предельных углеводородов с тем же числом углеродных атомов путем замены родового оконча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кончание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л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пример, этан – этилен, пропан – пропилен, изобутан – изобутилен, и т.д. Только углеводороды 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ак исключение,  назы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милен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водороды ряда этилен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цветные 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Температуры кипения и температуры плавления гомологов этилена нормального строения возрастают по мере увеличения в их составе числа углеродных атомов. Первые три члена ряда (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 газы, начиная  с амиленов и кончая углеводородам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жидкости, высшие этиленовые углеводороды – твердые 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личие от насыщенных углеводородов для углеводородов ряда этилена характерны разнообразные реакции присоединения по месту двойной связи; при этом они значительно легче вступают во взаимодействие  с различными реаген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специфические особенности этиленовых углеводородов определяются характером двойной связи. Казалось бы, что двойная связь должна быть прочнее простой; на самом же деле она легко разрывается и превращается в простую (чем и обусловлены реакции присоединения). При определенных условиях молекулы непредельных соединений распадаются с разрывом углеродной цепи именно по месту двойной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насыщенные (непредельные) углеводороды (алкены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насыщ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предель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глеводород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зывают такие углеводороды, элементарный состав которых характеризу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еньшим содержанием водор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сравнению с соответствующими по числу углеродных атомов предельными углеводоро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ы второй  пары находятся в особом состоянии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вязь). Эта пара электронов весьма лабильна и  осуществляемая ею связь в значительно большей мере, чем простая связь, подвергается поляр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именно атомы, соединенные двойной связью, наиболее реакционноспособны и проявляют ненасыщенность, т.е. присоединяют к себе атомы  или атомные группы реаг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водорода (реакция гидрирования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йствии на этиленовые углеводороды водород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присутствии катализаторов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омы водорода легко присоединяются к углеродным атомам, соединенным двойной связью, которая при этом разрывается и на ее месте сохраняется простая связ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гидрирования образуются предельные углеводороды. Гидрирование непредельных углеводородов – важный способ получения углеводородов ряда мет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оединение водорода по месту кратных связей вообще имеет большое практическое значение для превращения непредельных соединений различных классов в предельные. Так, гидрирование применяют в промышленности при получении твердых жиров из жидких растительных мас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галогенов (галогенирование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йствии на этиленовые углеводороды галогенов в результате присоединения их по месту двойной связи образуются дигалогенпроизводные предельных углеводородов с атомами галоген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соседних углеродных атом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галогеноводородов (гидрогалогенир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йствии на этиленовые углеводороды галогеноводородов также идет реакция присоединения, но образуются моногалогенпроизводные предельных углеводо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воды (реакция гидратаци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ычных условиях этиленовые углеводороды не реагируют с водой, н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и нагревании в присутствии катализато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хлористый цинк, серная кислота) элементы воды (водород и гидроксил) присоединяются к углеродным атомам по месту двойной связи с образованием спи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пособы получения алкен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этиленовые углеводороды (олефины; алкены) встречаются довольно редко. Иногда низшие олефины в небольших количествах растворены в нефти и входят в состав попутного нефтяного газа. Лишь в некоторых месторождениях нефть содержит значительные количества высших олефинов (например, канадская нефть). Довольно много этиленовых углеводородов получается при крекинге и пиролизе углеводородов нефти и содержатся  в крекинг-бензинах. Важным источником этилена, пропилена и бутиленов служат получающиеся при этом газы (газы крекинга); в таблице приведены данные о содержании в них непредельных углеводородов в зависимости от вида переработки нефте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еновые углеводороды (алкадиены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новыми углеводородами или алкадиенами, называются ненасыщенные углеводороды с открытой цепью углеродных атомов, в молекулах которых имеются две двойные связи. Состав этих углеводородов может быть выражен формулой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ие свойства диенов с кумулированными и с изолированными двойными связ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войствам эти углеводороды близки к этиленовым углеводородам и вступают в обычные реакции присоединения. Отличие их состоит в том, что каждой молекуле этих диенов может последовательно присоединиться две молекулы реагента  (например, Н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п.). При этом обе двойные связи реагируют независимо одна от другой: вначале одна, потом вторая. На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6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гласно теории химического строения  в ненасыщенных углеводородах углерод также имее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ален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у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етыр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о строение этих соединений отличается тем, что в их молекулах имеются пары углеродных атомов, соединенные так называемым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атными – двойными или тройными – связ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Благодаря наличию кратных связей атомы углерода в непредельных углеводородах не до предела насыщены водородом; отсюда и возникло название - непредельные или ненасыщен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другие органические соединения, в молекулах которых имеются кратные связи между углеродными атомами, являются производными ненасыщенных углеводородов; их также называю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предельными органическими веще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тивоположность насыщенным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насыщенные углеводор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оявляют высокую активность в химических реакциях и особенно  склонны к реакциям присоедин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насыщенные углеводороды ряда этилена (олефины, алкены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еводородами ряда этилена,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тиленовыми углеводородами (олефинами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ют ненасыщенные углеводороды, строение которых отличается наличием в их молекулах  одной двойной связи между углеродными атомами, т.е. – группировки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омология, изомерия и номенкл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леновые углеводороды образуют гомологический ряд, состав каждого члена которого выражается общей эмпирической формул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начальником этого ряда является углеводород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тил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а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а углерода и все водородные атомы в этилене равноценны. Поэтому этилену соответствует один одновалентный радикал  СН2=СН—, называемы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инил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щая в этилене каждый из водородных атомов на радикал метил, мы  можем вывести следующий гомолог этого ряда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пи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а С3Н6, имеющий строение СН2=СН—СН3. (Его радикал СН2=СН—СН2— ,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л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Точно также, в результате замещения на метил водородных атомов пропилена можно вывести формулу следующего непредельного углеводорода С4Н8. Как и в предыдущем ряду, у непредельных углеводородов, начиная с гомологов, содержащих четыре углеродных атома, проявляется изоме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тиленовые углеводороды имеют больше изоме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чем предельные с тем же числом углеродных атомов. Так, мы видели, что существует только два изомерных предельных углеводорода состава 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Непредельных же углеводородов состава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уществует три. Строение их может быть выведено исходя их пропилена путем последовательной замены в его молекуле атомов водорода при различных углеродных атомах на мет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6:24:57Z</dcterms:created>
  <dc:creator>Анна</dc:creator>
  <dc:description/>
  <dc:language>en-US</dc:language>
  <cp:lastModifiedBy>Анна</cp:lastModifiedBy>
  <dcterms:modified xsi:type="dcterms:W3CDTF">2016-03-10T19:39:12Z</dcterms:modified>
  <cp:revision>24</cp:revision>
  <dc:subject/>
  <dc:title>НЕНАСЫЩЕННЫЕ УГЛЕВОДОРОДЫ (АЛКЕНЫ, АЛКАДИЕНЫ, АЛКИНЫ) </dc:title>
</cp:coreProperties>
</file>