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1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049-F8A1-4D4E-942F-BDD8E7FB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EED-CC45-4578-9CCA-1F3C402D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831-FAD4-483D-BAE0-3D7AC997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A8C-E014-4733-8A70-8DC76F44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B1F-E927-4431-AC92-5A1E5B89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239-9DA1-4CF0-9ADD-322DC70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703-0ACC-42EB-A4CC-54E026C0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31A-C103-4A76-B387-3F915166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2C0-33C1-481D-96D7-3BDAE7D8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277-03C9-4AE8-A71B-D3F7FB79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FCB-C74C-4A63-9322-3047CEBC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606-30E9-4C51-BF20-E1FAFBD2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5B60-E361-4863-B6E6-505E3C2AF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классы органических соединений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клические 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различаются по числу атомов углерода в цикле и, в зависимости от характера связи между этими атомами, могут быть предельными и непреде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лекулах предельных циклические углеводородов атомы угерода соединены простыми связями, как и в молекулах предельных углеводородов с открытой цепью, что делает их сходными по свойствам с послед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я циклических соединений строятся подобно наименованиям соединений жирного (алифатического) ряда с добавлением приставки «цикл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роматическими соединени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ычно называют карбоциклические соединения, в молекулах которых имеется особая циклическая группировка из шести углеродных атомов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ензольное ядр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ростейшим веществом, содержащим такую группировку, является углеводород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енз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все остальные ароматические соединения этого типа рассматривают как производные бенз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mage004"/>
          <p:cNvPicPr/>
          <p:nvPr/>
        </p:nvPicPr>
        <p:blipFill>
          <a:blip r:embed="rId1"/>
          <a:stretch/>
        </p:blipFill>
        <p:spPr>
          <a:xfrm>
            <a:off x="611280" y="1557360"/>
            <a:ext cx="7632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наличию в ароматических соединениях бензольного ядра они по некоторым свойствам значительно отличаются от предельных и непредельных алициклических  соединений, а также и от соединений с открытой цепью. Отличительные свойства ароматических веществ, обусловленные наличием в них бензольного ядра, обычно называю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роматическими                     свойств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бензольное ядро – соответственно ароматическим яд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роматические  углеводороды ряда бенз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редставитель ароматических углеводородов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нзо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имеет соста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вещество было открыто М.Фарадеем в 1825 г. в жидкости, образующейся при сжатии или охлаждении т.н. светильного газа, который получается при сухой перегонке каменного угля. Впоследствии бензол обнаружили (А.Гофман, 1845г.) в другом продукте сухой перегонки каменного угля – в каменноугольной смоле. Он оказался весьма ценным веществом и нашел широкое применение. Затем было установлено, что очень многие органические соединения являются производными бензо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троение бенз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лгое время оставался неясным вопрос о химической природе и о строении бензола. Казалось бы, что он представляет собой сильно непредельное соединение. Ведь его соста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  по соотношению атомов углерода и водорода отвечает формул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n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6, тогда как соответствующий по числу углеродных атомов предельный углеводород гексан имеет соста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4 и отвечает формул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n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+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нак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нзол не дает характерных для непредельных соединений реакций; он, например, не обеспечивает бромной воды и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, т.е. в обычных условиях не склонен к реакциям присоединения, не окисляется. Напротив, бензол в присутствии катализаторов вступает в характерные для предельных углеводородов реакции замещения, например, с галоген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лось все же, что в определенных условиях бензол может вступать и в реакции присоединения. Там, в присутствии катализаторов он гидрируется, присоединяя 6 атомов водо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установлено, что однозамещенные производные бензо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имеют изомеров. Это показало, что все водородные и все углеродные атомы в его молекуле по своему положению равноценны, что также долго не находило объяс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первые формулу строения бензола предложил в 1865г. немецкий химик Август Кекуле. Он высказал предложение, ч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углеродных атомов в бензоле образуют цикл, соединяясь друг с другом чередующимися простыми и двойными связями, и, кроме того, каждый из них соединен с одним атомом водо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 органические соеди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зделяются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с открытой цепью атомов (алифатические)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ически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ические соединения характерны наличием в их молекулах цик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– это замкнутая цепь, т. е. такая цепь, которая, начавшись в некоторой вершине, завершается в ней 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а Кеку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лучила широкое распространение. Она согласуется с представлениями о четырехвалентности углерода, объясняет равноценность водородных атомов в бензо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в последнем шестичленного цикла доказано; в частности, оно подтверждено тем, что при гидрировании бензол образует циклогексан, в свою очередь циклогексан путем дегидрирования превращается в бенз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днако формула Кекуле имеет существенные недостатки. Допуская, что в бензоле имеются три двойных связи, она не может объяснить, почему бензол в таком случае с трудом вступает в реакции присоединения, устойчив к действию окислителей, т.е. не проявляет свойств непредельных соеди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нзо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применением новейших метод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ывает на то, ч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его молекуле между углеродными атомами нет ни обычных простых, ни обычных двойных связ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атомов углерода в бензоле, образующие цикл, лежат в одной плоскости в вершинах правильного шестиугольника и центры их находятся на равных расстояниях друг от др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 бензольной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на из электронных пар двойной связи находится в таком же состоянии, как пара электронов, осуществляющая простую связь (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связь). Вторая же электронная пара осуществляет связь особого характера (π-связ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формулой Кекуле в бензоле должны быть три π-связи. На самом же деле в бензоле нет обычных пар π-электронов фиксированных между двумя определенными С-атом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естичленном цикле бензола все простые связи С-С и С-Н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вязи) лежат в одной плоскости. Облака π-электронов всех С-атомов, имеющие форму объемных восьмерок, направлены перпендикулярно плоскости бензольного кольца. Каждое из таких облаков перекрывается облаками двух соседних углеродных ато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atest?cb=20120623192407"/>
          <p:cNvPicPr/>
          <p:nvPr/>
        </p:nvPicPr>
        <p:blipFill>
          <a:blip r:embed="rId1"/>
          <a:stretch/>
        </p:blipFill>
        <p:spPr>
          <a:xfrm>
            <a:off x="324000" y="1052640"/>
            <a:ext cx="76006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тность облаков π-электронов в бензоле равномерно распределена между всеми С-С-связями. Следовательно, π-электроны обобщены всеми углеродными атомами кольца, образуя единое кольцевое облако шести электронов (ароматический электронный секстет). Таким образом объясняется равноценность (выравненность) ароматических связей, придающих бензольному ядру характерные (ароматические) сво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омологи бензо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мологический ряд бензола имеет общую формулу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n-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мологи можно рассматривать как производные бензола, в котором один или несколько атомов водорода замещены различными углеводородными радикалами. Например,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метилбензол или толуол,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диметилбензол или ксилол,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этилбенз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3" descr="200421_html_m76128af7.png"/>
          <p:cNvPicPr/>
          <p:nvPr/>
        </p:nvPicPr>
        <p:blipFill>
          <a:blip r:embed="rId1"/>
          <a:stretch/>
        </p:blipFill>
        <p:spPr>
          <a:xfrm>
            <a:off x="611280" y="2205000"/>
            <a:ext cx="8137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3" descr="m36e6a3fe.gif"/>
          <p:cNvPicPr/>
          <p:nvPr/>
        </p:nvPicPr>
        <p:blipFill>
          <a:blip r:embed="rId1"/>
          <a:stretch/>
        </p:blipFill>
        <p:spPr>
          <a:xfrm>
            <a:off x="480960" y="1600200"/>
            <a:ext cx="818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тероциклически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 соединения с замкнутой цепью, включающие не только атомы углерода, но и атомы други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но и многоатомные спирты. Простые эфи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00244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ноатомные спирты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иртами называются производные углеводородов, представляющие собой продукты замещения атома (атомов) водорода в углеводородной молекуле гидроксильной группой –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того, какое количество атомов водорода замещено, спирты бывают одноатомными и многоатомными. Т.е. число групп –ОН в молекуле спирта характеризует атомность послед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ее значение имеют предельные одноатомные спирты. Состав членов ряда предельных одноатомных спиртов может быть выражен общей формулой  —   Сn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+1ОН  или R-O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%25D0%25A0%25D0%25B8%25D1%2581%25D1%2583%25D0%25BD%25D0%25BE%25D0%25BA11"/>
          <p:cNvPicPr/>
          <p:nvPr/>
        </p:nvPicPr>
        <p:blipFill>
          <a:blip r:embed="rId1"/>
          <a:stretch/>
        </p:blipFill>
        <p:spPr>
          <a:xfrm>
            <a:off x="611280" y="1484280"/>
            <a:ext cx="7705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1602_html_5d224f7e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3" descr="asd67.gif"/>
          <p:cNvPicPr/>
          <p:nvPr/>
        </p:nvPicPr>
        <p:blipFill>
          <a:blip r:embed="rId1"/>
          <a:stretch/>
        </p:blipFill>
        <p:spPr>
          <a:xfrm>
            <a:off x="1476360" y="260280"/>
            <a:ext cx="43689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омерия предельных одноатомных спир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словлена изомерией углеродного скелета и изомерией положения ОН- группы. Метиловый и этиловый спирты не имеют изомеров. В зависимости от положения гидроксильной группы при первичном, вторичном или третичном углеродном атоме спирты могут быть первичными, вторичными, третич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пиртах имеет место ассоциация молекул друг с другом за счет образования водородной св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рты легче воды: их плотности меньше 1. Метиловый, этиловый и пропиловый спирты смешиваются с водой во всех соотношениях. По мере усложнения углеводородных радикалов растворимость спиртов резко падает. Бутиловый спирт растворяется частично. Высшие спирты в воде не растворяются, т.е. выталкиваются из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рты реагируют со щелочными металлами (Na, K и т.д.) с образование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лкоголя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одержимое 3" descr="img12.jpg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46.1.jpg"/>
          <p:cNvPicPr/>
          <p:nvPr/>
        </p:nvPicPr>
        <p:blipFill>
          <a:blip r:embed="rId1"/>
          <a:stretch/>
        </p:blipFill>
        <p:spPr>
          <a:xfrm>
            <a:off x="611280" y="692280"/>
            <a:ext cx="820872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клические 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азделяю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боциклические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ициклические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оматические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тероциклические соед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ногоатомные спир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хатомные спирты называ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ликоля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рехатомные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лицерин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ждународной заместительной номенклатуре  двухатомные спирты называ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лкандиол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рехатомные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лкантриол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пирты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вумя гидроксилами при одном углеродном атоме обычно в свободном виде не существу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при попытках получить их они разлагаются, выделяя воду и превращаясь в соединение с карбонильной группой – альдегиды или кет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3" descr="i.jpg"/>
          <p:cNvPicPr/>
          <p:nvPr/>
        </p:nvPicPr>
        <p:blipFill>
          <a:blip r:embed="rId1"/>
          <a:stretch/>
        </p:blipFill>
        <p:spPr>
          <a:xfrm>
            <a:off x="179280" y="2565360"/>
            <a:ext cx="8569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стые эфи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стыми эфирам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называют производные спиртов, образованные в результате замещения водорода гидроксильной группы спирта на углеводородный оста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ethanol2.gif"/>
          <p:cNvPicPr/>
          <p:nvPr/>
        </p:nvPicPr>
        <p:blipFill>
          <a:blip r:embed="rId1"/>
          <a:stretch/>
        </p:blipFill>
        <p:spPr>
          <a:xfrm>
            <a:off x="900000" y="1700280"/>
            <a:ext cx="7417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gi0jewref6.png"/>
          <p:cNvPicPr/>
          <p:nvPr/>
        </p:nvPicPr>
        <p:blipFill>
          <a:blip r:embed="rId1"/>
          <a:stretch/>
        </p:blipFill>
        <p:spPr>
          <a:xfrm>
            <a:off x="539640" y="2133720"/>
            <a:ext cx="828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ЬДЕГИДЫ  И  КЕТ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ют собой производные углеводородов, в молекулах которых име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бонильная груп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азываемая также карбонилом,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gt;С=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ьдегидами называют соединения с карбонильной группой, в которых атом углерода этой группы связан, по крайней мере, с одним атомом вод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тонами называют  карбонилсоединения, в которых углерод карбонильной группы связан с двумя углеводородными остат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арактерное для альдегидов сочетание карбонильной группы с водородом, называют   альдегидной груп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бонильную группу кетонов – кетогруппой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еждународной номенклатуре карбонильная группа называется также  оксогруппой, а альдегиды и кетоны – соответственно оксосоединениями.   Общая формула С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142989_html_243d3804.png"/>
          <p:cNvPicPr/>
          <p:nvPr/>
        </p:nvPicPr>
        <p:blipFill>
          <a:blip r:embed="rId1"/>
          <a:stretch/>
        </p:blipFill>
        <p:spPr>
          <a:xfrm>
            <a:off x="324000" y="1844640"/>
            <a:ext cx="8280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международной заместительной номенклат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я альдегидов производят от заместительных названий соответствующих по углеродному скелету углеводородов, добавляя окончание – аль. Выбирая в формуле наиболее длинную (главную) углеродную цепь, в нее включают альдегидный углерод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умерацию цепи начинают с альдегидного углер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при этом, поскольку альдегидная группа всегда находится при первичном угле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, следовательно, в начале цепи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ифру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тносящуюся к альдегидной группе, перед названием основ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ожно и не стави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3628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этим по заместительной номенклатуре название муравьиного альдегида – метаналь, уксусного – этаналь, н-валерианового (I) – пентаналь, изовалерианового (II) – 3-метил-1-бутаналь, или просто 3-метилбутаналь, а его изомера (III) – 2-метилбутан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менклатура и изомерия кетон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ждународной радикально-функциональной номенклатуре названия кетонов, производят из названий радикалов, соединенных с карбонильной группой, и от окончания – ке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метилкетон, или, как его обычно называют (тривиальное название), ацетон, является простейшим кето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3" descr="maxresdefault.jpg"/>
          <p:cNvPicPr/>
          <p:nvPr/>
        </p:nvPicPr>
        <p:blipFill>
          <a:blip r:embed="rId1"/>
          <a:stretch/>
        </p:blipFill>
        <p:spPr>
          <a:xfrm>
            <a:off x="549360" y="692280"/>
            <a:ext cx="80452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боновые кисл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й сложной функциональной группе соединены друг с другом две простые кислородсодержащие группы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бонильная С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ксиль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с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руппа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отсюда и происходит название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рбоксильная груп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ород гидроксильной группы, входящей в карбоксильную группу, обуславлива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слотные свой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рбоновых кислот; поэтому число карбоксильных групп характеризу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лоты. В молекулах одноосновных (монокарбоновых) кислот – одна карбоксильная группа, двухосновных (дикарбоновых) кислот – две карбоксильные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сыщенные одноосновные кисло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ыщенные кислоты являются производными насыщенных углеводородов. Высшие гомологи этих кислот впервые были выделены из природных жиров, поэтому их, а затем и все другие кислоты с открытой целью углеродных атомов назва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рными кисло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, изомерия, номенклату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роении и изомерии предельных одноосновных кислот наблюдается определенная аналогия со строением и изомерией альдегидов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боксильная груп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ак и альдегидная, может бы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на лишь первичным углеродным ато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остейших кислот широко использу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ивиальные наз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оисходящие от названий природных продуктов, из которых та или иная кислота была впервые получ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ейший представитель гомологического ряда насыщенных одноосновных кислот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равьи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ислота, она была впервые обнаружена в выделениях муравьев, откуда и происходит ее наз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3" descr="asd70.gif"/>
          <p:cNvPicPr/>
          <p:nvPr/>
        </p:nvPicPr>
        <p:blipFill>
          <a:blip r:embed="rId1"/>
          <a:stretch/>
        </p:blipFill>
        <p:spPr>
          <a:xfrm>
            <a:off x="1116000" y="476280"/>
            <a:ext cx="48848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Содержимое 3" descr="i (1).jpg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002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боциклические соединения – это соединения, в молекулах которых присутствуют циклы, состоящие только из атомов угле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имо связи друг с другом, атомы углерода также связаны и с другими атомами (водородом, кислородом и т.д), но сам цикл составлен именно из атомов угле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тероциклические соединения - это циклические соединения, в циклах которых помимо атомов углерода, присутствуют атомы других элементов (кислорода, азота, серы и др.). И это тоже отражено в их названии (от греч. ετερος — «иной», «различный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боциклические соедин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яют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ицикл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омат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ициклические соединения называют так потому, что по химическим свойствам они наиболее близки к алифатическим соединениям, хотя по структуре они и являются кольцеобраз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14:43:30Z</dcterms:created>
  <dc:creator>Анна</dc:creator>
  <dc:description/>
  <dc:language>en-US</dc:language>
  <cp:lastModifiedBy>Пользователь</cp:lastModifiedBy>
  <dcterms:modified xsi:type="dcterms:W3CDTF">2017-03-20T05:29:28Z</dcterms:modified>
  <cp:revision>61</cp:revision>
  <dc:subject/>
  <dc:title>Ароматические соединения</dc:title>
</cp:coreProperties>
</file>