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BEA-BB38-4587-9115-449B4A80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253-DC7D-4894-A179-899F0F4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3A2-5A54-475F-AD38-0D542697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135-D15D-4419-913C-0C402C48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8EC-0636-43E3-9F5B-E2134418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110-06D9-4CAD-9118-28D4619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70B-FEBE-4DDB-8001-135D7A96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108-AC54-4BED-8C8F-16356BC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27A-C10B-4DFA-A4DA-6521278E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B34-7107-4F0B-92BA-9DB7EBB5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F5F-9D45-4D01-A46B-D4F881CE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F20-95F7-4C20-BA69-CC1B12F5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ED3-E171-4053-AB99-DEDCE554F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бораторная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нклатура органически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аны (2 ч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24000" y="2924280"/>
          <a:ext cx="849600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924280"/>
                    <a:ext cx="84960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образец химической реакции, напишите уравнение реакции для образование хлорпроизводных для алканов до С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мерия насыщенных углеводород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формул строения более сложных предельных углеводородов - путем последовательного замещения атома водорода в молекуле  более простого углеводорода на радикал мет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этана 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им образом может быть выведен пропан – углеводород состава 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ому соответствует одновалентный радикал пропил состава С3Н7—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ем еще раз упрощенную   структурную формулу пропана, обозначив  в ней  атомы угле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3—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2—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этой формулы видно, что в пропане не все углеродные атомы одинаковы по своему положению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из двух атомов углерода, обозначенных  буквой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тратил только по одной валентной связи на соединение с другим углеродным атомом. Такие атомы углерода назыв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вичными углеродными атом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родный атом, обозначенный буквой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тратил на соединение с другими углеродными атомами две валентные связи и поэтому 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ичным углеродным атом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ые углеродные атомы входят в состав метильных групп, вторичный – в состав группы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которую называют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иленовой групп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ые углеродные атомы в молекуле пропана равноценны между собой, так как они связаны с одним и тем же вторичным  углеродным ато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равноценны и все атомы водорода, связанные с обоими первичными  углеродными ато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тнятии атома водорода от молекулы пропана могут образоваться два остатка состава 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при отнятии водорода от каждого из первичных углеродных атомов; его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ичным пропи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прос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пи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– при отнятии водорода от вторичного углеродного атома; его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ичным пропи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опропи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3—СН2—СН2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СН3—СН—СН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661080" y="4581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мещении одного атома водорода в молекуле пропана на остаток метил или, что то же самое, при соединении пропильного остатка  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метильным остатком - С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зуется следующий в ряду гомолог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глеводород, получивший назва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ут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сделать вывод, что бутанов может быть д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образуется при соединении метила с первичным пропильным оста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углерод состава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разуется при соединении метила с вторичным пропильным остатком, и его строение может быть выражено форму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холоду серная кислота (олеум) почти не действует на предельные углевод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сокой температуре она может их окисл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меренном нагревании углеводороды, преимущественно изостроения, с третичным углеродом в молекуле, вступают во взаимодействие с дымящейся серной кисло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выделяется вода и образуется продукт замещения водород при третичном углероде на остаток серной кислоты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ульфогрупп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разующиеся вещества называют сульфокислотоми. Реакция сульфирования имеет особенно большое практическое значение для ряда ароматических углеводородов. Сульфокислоты предельных углеводородов (алкансульфокислоты) с цепью из 8-20 атомов углерода нашли ценное применение для получения детергентов – синтетических моющих сред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исление предельных углеводород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редставления о гомологическом ряде ал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взаимосвязью между молекулярной массой и свойствами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ные вещества гомологического ряда ал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химических свойств предельных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активы и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дкие алк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анганат калия (1 н. раств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екислый натрий (1 н. раствор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п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и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ирку помещают 1 каплю исследуемого алкана (или смеси алканов), 1 каплю раствора углекислого натрия и 2-3 капли раствора перманганата калия. Содержимое пробирки энергично взбалтыва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олетовая окраска водного слоя не изменяется, так как алканы в этих условиях не окисляю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самоподгот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ение молекулы алкана (на примере метана). Особенности химической связи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3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ридиз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гомологического р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аны, встречающиеся в природе. Нефть, ее возникновение, химический состав и перспективы ис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насыщенными углеводородами и содержат максимально возможное число атомов вод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атом углерода в молекулах алканов находится в состоянии sp3-гибридизации — все 4 гибридные орбитали атома С идентичны по форме и энерг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и C—C представляют собой σ-связи, отличающиеся низкой полярностью и поляризуемостью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ейшим представителем класса является метан (CH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глеводород с самой длинной цепью — нонаконтатриктан C390H782 синтезировали в 1985 году английские химики И. Билл и М. К. Уай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4467a43a1fdea9f7d4809a74f3551bfd_i-420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те приведенные выше вещества, обозначая черточкой связь углерода с водор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те сокращенные  формулы гомологического ряда алканов, (до С=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аны имеют низкую химическую активность. Это объясняется тем, что единичные связи C—H и C—C относительно прочны, и их сложно разрушить. Поскольку углеродные связи неполярны, а связи С—Н малополярны, оба вида связей малополяризуемы и относятся к σ-виду, их разрыв наиболее вероятен по гомолитическому механизму, то есть с образованием радик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логенирование алк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кает по радикальному механиз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нициирования реакции необходимо смесь алкана и галогена облучить УФ-излучением или нагр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ирование метана не останавливается на стадии получения метилхлорида (если взяты эквимолярные количества хлора и метана), а приводит к образованию всех возможных продуктов замещения, от хлорметана до тетрахлормет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ирование других алканов приводит к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е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родуктов замещения водорода у разных атомов углерода. Соотношение продуктов хлорирования зависит от темп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1T07:26:41Z</dcterms:created>
  <dc:creator>Анна</dc:creator>
  <dc:description/>
  <dc:language>en-US</dc:language>
  <cp:lastModifiedBy>Нейдорф Анна Рудольфовна</cp:lastModifiedBy>
  <dcterms:modified xsi:type="dcterms:W3CDTF">2023-03-09T07:01:34Z</dcterms:modified>
  <cp:revision>31</cp:revision>
  <dc:subject/>
  <dc:title>Лабораторная №1</dc:title>
</cp:coreProperties>
</file>