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216-9993-49AE-811D-592701B0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792-C212-403A-9DA5-627822F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974-E76B-41EF-A6AB-45D31C3F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7EA-58E7-4A5F-9846-A7F72A5E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BEA-E5EE-403E-A8AD-03EB0B2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5AA-B55C-49A6-9C46-913899E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DA6-4812-4599-8E00-24598B1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208-0B1E-4079-AFF0-4867A12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A12-7B69-4F4C-8F09-AB180BF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FE0-6F87-4D32-B1CA-9F10D0D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629-7015-4E62-AF88-097B6B9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7F2-3574-4A40-B6E7-8C9B104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2DE6-9F5E-42B8-A0D3-03E15786A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ифатические углеводород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аны, их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двой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гибридных облака каждого атома С в ацетилене участвуют в образовании двух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ей (третье валентное состояние углерода). В ацетилене всего тр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и (од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расположенные на одной пря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же перекрывания облаков электронов, сохранивших  p-состояние, возникают дв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и, образованны и двух взаимно перпендикулярных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родные атому сближены еще больше, чем в случае двойной свя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ом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 1814 г. французский ученый Гей-Люссак установил, что некоторые вещества при одном и том же качественном и количественном составе обладают различными физическими и химическими свойствами. Например, соста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соответственно, молекулярный вес 46,07 имеют два различных изомерных органических вещества: этиловый спирт – жидкость, кипящая при 78,4 оС, смешивающаяся с водой в любых соотношениях, и диметиловый эфир – газ, почти не растворимый в воде и существенно отличающийся от этилового спирта по химически свой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явление, заключающееся в существовании нескольких химических соединений с одинаковым качественным и количественным составом, но отличных по физическим и химическим свойствам, было назва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омер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Указанные соединения получили названи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зоме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изомер углеводорода бута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прямую (нормальную) цепь. Второй изомер – изобутан – разветвленную цепь атомов угле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глеводорода пента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ия в последовательности связи углеводородных атомов приводят к образованию трех изом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величением числа атомов углерода в молекуле резко возрастает число изомеров.  Известны все 9 структурных изомерных гептан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едсказанных теорией химического стро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глеводород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зможно 75 структурных изомеров,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59 изомеров, для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66319 изоме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ение изомерии – одна из важнейших причин существования большого числа органических соеди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мерия характерна не только для линейных, но и для циклических молеку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ная изом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иметь место и при одинаковом углеродном скелете, если функциональные группы занимают различное положение в молекуле. Порядок связи атомов в молекуле пропана выражается одной структурной формулой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мещение   одного из атомов водорода пропана гидроксильной группой приводит к получению двух изомерных спир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чески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уют гомологические ряды. Каждый последующий  член гомологического ряда отличается от предыдущего 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етиленовую групп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называ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омологической разность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логические ряды объединяют органические соединения с общими химическими свойствами и сходным химическим стро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ой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ована двумя обобществленными электронными парам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состояние каждой из них не одинак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в молекуле этилена при образовании двойной связи в каждом из атомов углерода образуется лишь три гибридных состояния -  в результате гибридиз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ояния и дву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ояний (sp2- гибридизация). В этом случае у каждого углеродного атома одно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ояний не участвует  гибридизации и остается неизме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циклические насыщенные (предельные) углеводоро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арафины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к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ростыми органическими соединениями являются вещества, молекулы которых построены только из атомов углерода и водорода и которые поэтому были названы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глеводород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водороды широко распространены  природе и находят очень большое и разнообразное практическое приме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углеводородов заключается еще и в том, что все остальные, более сложные по составу органические вещества являются производными этих простейших  соединений  и могут быть выведены из этих  углеводородов заменой атомов водорода в их молекулах на другие атомы или атомные группы. В свою очередь все  другие вещества путем химических реакций могут быть превращены в углеводороды. Таким образом, углеводороды служат остовом, основой всех прочих органически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еводороды, в молекулах которых углеродные атомы образуют открытые, незамкнутые цепи, называю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циклическими  углеводород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глеводородами жирного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х подразделяют на два клас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сыщенные (преде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углеводород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насыще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непредельны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глеводо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классу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насыщенных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т такие углеводороды, в молекулах которых углеродные атомы соединены друг с друго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стыми (одинарным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алентности углеродных атомов, не участвующие  в их взаимном соединении, образуют связи с атомами вод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 как в этих углеводородах имеются только простые связи между углеродными атомами, последние соединены с наибольшим числом  атомов водорода, таким образом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сыщенные углеводороды  наиболее богаты водородо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сравнению с углеводородами других классов. В них углеродные атомы до предела насыщены водородом; поэтому эти углеводороды и наз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сыщенны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Эти названия распространяются, как мы увидим далее, на все органические соединения, являющиеся производными предельных углевод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сыщенные углеводороды в обычных условиях мало реакционноспособны и потому были так же названы парафинами  (от латинских сл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um affini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имеющий мало сродст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ические свойства насыщеных углеводоро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ыщенные углеводороды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цветные вещества, практически не растворимые в воде, с плотностью меньш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 зависимости от состава они представляют собой газообразные, жидкие или твердые вещества. При эт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 кипения, температура плавления и плот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дельных членов в гомологических рядах повышается по мере возрастания числа углеродных атомов в молекул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н, этан, пропан и бут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обычных условиях представляют собо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они почти не имеют запаха. Пентан и следующие за ним углеводороды (вплоть до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жидкости с характерным "бензиновым" запахом и различной, постепенно снижающейся летуче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сшие насыщенные углеводороды – твердые нелетучие вещества, не имеющие запах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зависимость в изменении свойств по мере усложнения количественного состава в гомологических рядах углеводородов была открыта К. Шорлемме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ы кипения и плавления углеводородов зависят и от их 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ормальные углеводороды кипят выше, чем углеводороды изостроения.  С другой стороны, самую высокую температуру плавления имеет тот изомер, цепь которого наиболее разветвлен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насыщенных углеводород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ыщенные (предельные) углеводороды – это вещества, трудно вступающие  реакции при обычных температу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сех углеводородов гомологического ряда метана характерна несклонность к реакциям присо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пределенных условиях они вступают в реакции замещения, в результате которых атомы водорода их молекул замещаются другими атомами или группами и образуются производные углевод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нергичном воздействии температур или химических реагентов молекулы углеводородов разлагаются с разрушением углеродного скел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и гибридных облака каждого из углеродных атомов этилена участвуют в образовании трех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связей (второе валентное состояние углерода). В этилене всего пять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связей (четыр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одна С—С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заимодействие с галоген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обычных условиях хлор и бром реагируют с насыщенными углеводородами, но лишь очень медленно. Если встряхивать жидкий предельный углеводород с бромной водой, то после расслаивания жидкостей углеводородный слой оказался окрашенным в желтый или коричневый цвет, т.к. бром лучше растворим в углеводороде и переходит в него из водного слоя; однако окраска  брома не исчезает, т.к. он практически не вступает в реакцию. Взаимодействие насыщенных углеводородов с хлором или бромом ускоряется при нагревании и, особенно, при действии свет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галогена постепенно замещают в углеродных молекулах атомы водорода. При этом образуются смеси галогенпроизводных углеводородов; реакция сопровождается выделением галоген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действии хлора на метан происходит постепенное замещение всех атомов водорода и образуется смесь хлорпроизводны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5905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еакция с азотной кислотой (реакция нитрования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ированная азотная кислота при нагревании окисляет насыщенные углеводороды, а на холоду - не действует на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ействии на насыщенные углеводороды разбавленной азотной кислоты, при нагревании и под давлением, возможно замещение водорода в углеводородах на остаток азотной кислот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итро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ющиеся вещества назыв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итросоединен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их молекулах азот нитрогрупы непосредственно связан с углер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оследствии было разработано нитрование насыщенных углеводородов, основанное на взаимодействии их паров с парами  азотной кислоты. Например, при нитровании этана образуется нитроэ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сходный углеводород содержит различные углеродные атомы – первичные, вторичные или третичные, то образуется смесь изомерных нитросоеди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итровании наиболее легко на нитрогруппу замещается водород у третичного атома углерода, медленнее – у вторичного и труднее всего – у первич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тросоединения жирного ряда – бесцветные жидкости, не растворимые в воде, со слабым эфирным запах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ношение к действию окислителей и высоких темпер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изких температурах предельные углеводороды устойчивы даже к действию сильных окислителей. Так, например, раство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хромовая смес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 комнатной температуре не окисляют предельные углеводороды и при действии на них не изменяют своей окраски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ействие кислорода воздух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При высоких температурах под действием кислорода воздуха предельные воспламеняются и сгорают с образованием С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, выделяя большое количество тепла; на этом основано применение их в качестве топл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разработаны способы   окисления углеводородов кислородом воздуха при низких температурах при помощи катализаторов.  Так, например, из смеси высших углеводородов нефти путем окисления удается получить смеси высших жирных кисл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екинг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гревании углеводородов до высоких температур (450—550 С) без доступа воздуха они распадаются с разрывом углеродных цепей и образованием более простых и непредельных углеводородов. Такой процесс называю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рекинг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асщепление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ожение углеводородов при еще более высоких температурах (550—650 С и выше) приводит к образованию простейших (главным образом газообразных) углеводородов; кроме того, при этом происходит замыкание углеродных цепей в циклы и получаются значительные количества ароматических углеводородов. Этот процесс называю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иролиз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менением в процессах крекинга и пиролиза специальных катализаторов и давления удается регулировать эти процессы и получать необходим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акция дегидрирования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реакция заключается в отщеплении от молекул предельных углеводородов атомов водорода и приводит к образованию непредельных и циклических углеводородов. Она имеет большое промышлен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45720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 пропи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0-600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3—СН2—СН3  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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3—СН=СН2  +  Н2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193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электронных пар двойной связи между атомами углерода осуществляют обычную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электронная пара образуется электронами не участвующими в  гибридизации  и сохранивши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стоя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ка этих электронов, сохранившие форму объемных восьмерок, направлены перпендикулярно к плоскости, в которой расположены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вязи молекулы этилена и перекрываются над и под этой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ь, осуществляемую такой парой электронов, называют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вязью, а образующие ее электроны  -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электро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вязь возникает в плоскости, перпендикулярной  плоскости расположени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ойная связь, являющаяся сочетанием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и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связей, по характеру существенно отличается от прост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двойной связи несколько меньше, чем прос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й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зована тремя парами обобществленных электрон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этих пар не одинаково, так же как  в случае двойной связи. Одна из них представляет собой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вязь, две другие  -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вя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бразовании тройной связи в каждом углеродном атоме гибридизируется од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 од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стояния электроно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ибридизац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аждого  углеродного атома образуется два гибридных состояния, а д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стояния не участвуют в гибридизации и сохраняют свою конфигур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07:48:07Z</dcterms:created>
  <dc:creator>Анна</dc:creator>
  <dc:description/>
  <dc:language>en-US</dc:language>
  <cp:lastModifiedBy>Анна</cp:lastModifiedBy>
  <dcterms:modified xsi:type="dcterms:W3CDTF">2016-02-25T18:34:13Z</dcterms:modified>
  <cp:revision>33</cp:revision>
  <dc:subject/>
  <dc:title>ОСНОВНЫЕ ТЕОРЕТИЧЕСКИЕ ПОЛОЖЕНИЯ ОРГАНИЧЕСКОЙ ХИМИИ</dc:title>
</cp:coreProperties>
</file>