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B4B-58F1-470C-83D9-0936115F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438-272D-44C7-836A-EE9BD59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AFD-0B01-430D-B6DD-D23232F2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40F-6210-4320-903E-A4B10639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530-0709-4C2B-9AF9-04F1207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846-43BF-43AF-9FD0-F56C54FB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5A1-497B-43DD-AD82-032D0A8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AB9-BE85-461E-B834-86AFDB8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651-9C67-44D9-B154-F465AA0F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5A2-DB4C-4732-BBB1-E029AC0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6BD-B466-4CEA-82DA-95BF84E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FF1-57B1-47C9-9B29-B595627F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C9A8-2CB8-44A0-9899-90306E84C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B384-FF30-41A3-B6A1-42ED2CE81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ок. 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254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и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CD8D-779A-4966-8610-EC421EBEC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тичная структур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ёхмерная пространств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сяза счёт взаимодействий между радикалами аминокислот, стоящих на значительном расстоянии друг от друга в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о активная конформация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нативная структура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6850-382A-44C8-85A2-DE9CE720A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идрофобные взаимодейст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фобные радикалы аминокислот стремятся к объедин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 белковой глобулы формиру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фобное яд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фильные радикалы а/к стремятся образовать водородные связи с водой и поэтому в основном располагаются на поверхности белковой молеку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1406-89AE-448B-8B68-1D9766E6F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онные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возникать между отрицательно заряженными (анионными) карбоксильными группами радикалов асп и глу кислот и положительно заряженными (катионными) группами радикалов лизина, аргинина или гистид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3482-6BD8-4F64-A0B8-57C0FCD5F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валентные связ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чную структуру некоторых белков стабилизирую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ульфидные связ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ющиеся за счёт взаимодействия SH-групп двух остатков цисте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находиться далеко друг от друга в линейной молекуле, но сближаются и образуют ковалентную связ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E13-CBB8-4D64-8A5A-9E861D717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енатурация бел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фобные взаимодействия, а также ионные и водородные связи относят к числу слаб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 большого количества слабых связе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хим. реакции и т.п.) к разрушению нативной конформации бе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рата специфической функции бел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31D-0504-474F-8C39-E71F361F7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енная структура бел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липептидная цепь белка содержит более 200 аминокислот, как правило, её пространственная структура сформирована в виде двух или более дом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ок полипептидной цепи, который в процессе формирования пространственной структуры приобрёл независимо от других участков той же цепи конформацию глобулярного бе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A9A-096C-4155-9B5E-DEE42BABE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вертичная структура бел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т белки, состоящие из двух и более полипептидных цеп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формирования трёхмерной структуры каждой полипептидной цепи они объедин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и, соединяющие  полипептидные цепи: гидрофобные, ионные, вод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полипептидные цепи - субъединиц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1AFC-029D-4025-97A2-86C73BCDD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Картинка 10 из 131"/>
          <p:cNvPicPr/>
          <p:nvPr/>
        </p:nvPicPr>
        <p:blipFill>
          <a:blip r:embed="rId1"/>
          <a:stretch/>
        </p:blipFill>
        <p:spPr>
          <a:xfrm>
            <a:off x="755640" y="549360"/>
            <a:ext cx="7129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зико-химические свойства бел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 белки различаются по своим физико-химическим свойствам: форме молекул, молекулярной массе, суммарному заряду молекулы, соотношению полярных и неполярных групп на поверхности нативной молекулы белка, растворимости белков, а также степени устойчивости к воздействию денатурирующих аг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личия белков по форме молеку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е молекул белки делят на глобулярные и фибрилляр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улярные белки имеют более компактную структуру, их гидрофобные радикалы в большинстве своём спрятаны в гидрофобное ядро, и они значительно лучше растворимы в жидкостях организма, чем фибриллярные белки (исключение составляют мембранные бел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468F-D1C0-4A15-AB5E-90D108F32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БЕЛ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птидные цепи содержат а/к остатки, соединены пептидными связями. (прочные, разрыв - фер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к имеет определённую пространственную структуру, она определяет функции бел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4 уровня структурной организации бел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личия белков по молекулярной масс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и - высокомолекулярные соединения, но могут сильно отличаться по молекулярной массе, которая колеблется от 6000 до 1 000 000 Д 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ярная масса белка зависит от количества аминокислотных остатков в полипептидной цепи, а для олигомерных белков - и от количества входящих в него протомеров (или субъединиц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уммарный заряд бел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и имеют в своём составе радикалы лизина, аргинина, гистидина, глутаминовой и аспарагиновой кислот, содержащие функциональные группы, способные к ионизации (ионогенные группы). Кроме того, на N- и С-концах полипептидных цепей имеются α-амино- и α-карбоксильная группы, также способные к ионизации. Суммарный заряд белковой молекулы зависит от соотношения ионизированных анионных радикалов Глу и Асп и катионных радикалов Лиз, Apr и Ги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полярных и неполяр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 на поверхности нативных молеку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верхности большинства внутриклеточных белков преобладают полярные радикалы, однако соотношение полярных и неполярных групп отлично для разных индивидуальных белков. Так, протомеры олигомерных белков в области контактов друг с другом часто содержат гидрофобные радикалы. Поверхности белков, функционирующих в составе мембран или прикрепляющиеся к ним в процессе функционирования, также обогащены гидрофобными радикалами. Такие белки лучше растворимы в липидах, чем в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астворимость бел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имость белков в воде зависит от всех перечисленных выше свойств белков: формы, молекулярной массы, величины заряда, соотношения полярных и неполярных функциональных групп на поверхности белка. Кроме этого, растворимость белка определяется составом растворителя, т.е. наличием в растворе других растворённ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некоторые белки легче растворяются в слабом солевом растворе, чем в дистиллированной воде. С другой стороны, увеличение концентрации нейтральных солей может способствовать вьшадению определённых белков в осадок. Денатурирующие агенты, присутствующие в растворе, также снижают растворимость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выделения и очистки бел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ндивидуальных белков из биологического материала (тканей, органов, клеточных культур) требует проведения последовательных операций, включающ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ление биологического материала и разрушение клеточных мембра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кционирование органелл, содержащих те или иные бел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тракцию белков (перевод их в растворённое состоя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ение смеси белков на индивидуальные б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етоды разрушения тка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экстракции бел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азрушения биологического материала используют методы: гомогенизации ткани, метод попеременного замораживания и оттаивания, а также обработку клеток ультразву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тракция белков, связанных с мембранами, и разрушение олигомерных белков на прото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скомый белок прочно связан с какими-либо структурами клетки, его необходимо перевести в раствор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, для разрушения гидрофобных взаимодействий между белками и липидами мембран в раствор добавляют детергенты; чаще всего используют тритон Х-100 или додецилсульфат нат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ействии детергентов обычно разрушаются и гидрофобные взаимодействия между протомерами в олигомерных бел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аление из раствора небелковых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клеиновые кислоты, липиды и другие небелковые вещества можно удалить из раствора, используя их Особенные физико-химические свойства. Так, липиды легко удаляются из раствора добавлением органических растворителей, например ацетона. Однако воздействие должно быть кратковременным, так как ацетон вызывает денатурацию некоторых белков. Нуклеиновые кислоты осаждают добавлением в раствор стрептомиц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ль-фильтрация, или метод молекулярных с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деления белков часто используют хроматографические методы, основанные на распределении веществ между двумя фазами, одна из которых подвижная, а другая неподвижная. В основу хроматографических методов положены разные принципы: гель-фильтрации, ионного обмена, адсорбции, биологического ср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разделения белков с помощью гель-фильтрационной хроматографии основан на том, что вещества, отличающиеся молекулярной массой, по-разному распределяются между неподвижной и подвижной фазами. Хроматографическая колонка заполняется гранулами пористого вещества (сефадекс, агароза и др.). В структуре полисахарида образуются поперечные связи и формируются гранулы с "порами", через которые легко проходят вода и низкомолекулярные вещества. В зависимости от условий можно формировать гранулы с разной величиной "пор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движная фаза - жидкость внутри гранул, в которую способны проникать низкомолекулярные вещества и белки с небольшой молекулярной массой. Смесь белков, нанесённую на хроматографическую колонку, вымывают (элюируют), пропуская через колонку растворитель. Вместе с фронтом растворителя движутся и самые крупные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мелкие молекулы диффундируют внутрь гранул сефадекса и на некоторое время попадают в неподвижную фазу, в результате чего их движение задерживается. Величина пор определяет размер молекул, способных проникать внутрь гран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гелевая структура сефадекса легко деформируется под давлением, гели стали заменять более жёсткими матрицами (сефактил, той-оперл), представляющими сферические гранулы с разными размерами пор. Выбор размеров пор в гранулах зависит от целей хрома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CBAD-097C-458E-97EA-A1A617EF0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Картинка 39 из 227"/>
          <p:cNvPicPr/>
          <p:nvPr/>
        </p:nvPicPr>
        <p:blipFill>
          <a:blip r:embed="rId1"/>
          <a:stretch/>
        </p:blipFill>
        <p:spPr>
          <a:xfrm>
            <a:off x="611280" y="189000"/>
            <a:ext cx="74898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льтрацентрифуг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разделения также основан на различии в молекулярных массах белков. Скорость седиментации веществ в процессе вращения в ультрацентрифуге, где центробежное ускорение достигает 100 000-500 000 g, пропорционально их молекулярной м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верхность буферного раствора, помещённого в кювету, наносят тонкий слой смеси белков. Кювету помещают в ротор ультрацентрифуги. При вращении ротора в течение 10-12 ч более крупные молекулы (с большей молекулярной массой) оседают в буферном растворе с большей скор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в кювете происходит расслоение смеси белков на отдельные фракции с разной молекулярной массой (рис. 1-56). После расслоения белковых фракций дно кюветы прокаливают иглой и по каплям собирают содержимое небольшими порциями в пробир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офорез бел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основан на том, что при определённом значении рН и ионной силы раствора белки двигаются в электрическом поле со скоростью, пропорциональной их суммарному заряду. Белки, имеющие суммарный отрицательный заряд, двигаются к аноду (+), а положительно заряженные белки - к катоду (-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форез проводят на различных носителях: бумаге, крахмальном геле, полиакриламидном геле и др. В отличие от электрофореза на бумаге, где скорость движения белков пропорциональна только их суммарному заряду, в полиакриламидном геле скорость движения белков пропорциональна их молекулярным ма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шающая способность электрофореза в полиакриламидном геле выше, чем на бум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ки. Структура, функции. Ферменты, механизмы ферментативных реа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и №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CF3-CB10-4EF1-8702-9B120DEC0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0B1-2B94-4197-8EE9-152622D43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талитическ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энзимы) – белки - увеличивают скорость протекания химической реакции, при этом не расход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ческая функция фермента обусловлена наличием в его структур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ого центра (А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Ц фермента есть участки связывания субстрата, и участки  химического превращения субстрата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04A5-B4D9-4937-BC4D-EB36EEC23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рмент-субстратные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астке связывания субстрат связывается с ферментом - фермент-субстратный комплек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талитическом участке субстрат превращается в проду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 отщепляется от активного центра фермен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5C3-9DF9-4B69-A098-FCD153A24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т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хематично процесс катализа можно представить следующим уравн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+ S ↔ ES ↔ ЕР ↔ Е + 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Е - фермент (энзим), S - субстрат, Р - продук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89B-209D-4246-A919-FB896B64B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1071880058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9D08-123B-4C8C-B04F-99EDAC5D6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Картинка 5 из 171"/>
          <p:cNvPicPr/>
          <p:nvPr/>
        </p:nvPicPr>
        <p:blipFill>
          <a:blip r:embed="rId1"/>
          <a:stretch/>
        </p:blipFill>
        <p:spPr>
          <a:xfrm>
            <a:off x="179280" y="765000"/>
            <a:ext cx="8425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B78-B12F-4048-B6F5-C11738475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Картинка 7 из 62761"/>
          <p:cNvPicPr/>
          <p:nvPr/>
        </p:nvPicPr>
        <p:blipFill>
          <a:blip r:embed="rId1"/>
          <a:stretch/>
        </p:blipFill>
        <p:spPr>
          <a:xfrm>
            <a:off x="468360" y="404640"/>
            <a:ext cx="7775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7668-237B-47CB-B2BF-27EBF8B36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важное свойство фер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стратная сп.- способность фермента взаимодействовать лишь с одним или несколькими определёнными субстра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2DB-0D8B-4B18-9DCF-FEA26B135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ичная структура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ейная последовательность а/к в полипептидной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ичная структура каждого белка закодирована в одном г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15F4-EA16-40B1-A36C-46E957145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ую субстратную специфичность (катализ 1 субстрата) - аргина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ую субстратную специфичность однотипные реакции с группой структурно похожих субстратов - панкреатическая липаза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реоспецифичность специфичность ферментов к стереоизомерам (L-аминокислотам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273D-595A-4D3F-9824-31BF4A845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талитическая специфи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рмент превращает субстрат по одному из возможных путей его 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т от строения каталитического участка активного центра фер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юкозо-6-фосфат в клетках печени человека - субстрат 4 различных ферментов; фосфоглюкомутазы, глюкозо-6-фосфатфосфатазы, фосфоглюкоизомеразы и глюкозо-6-фосфатдегидрогеназ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B5873p78-a1"/>
          <p:cNvPicPr/>
          <p:nvPr/>
        </p:nvPicPr>
        <p:blipFill>
          <a:blip r:embed="rId1"/>
          <a:stretch/>
        </p:blipFill>
        <p:spPr>
          <a:xfrm>
            <a:off x="1612800" y="404640"/>
            <a:ext cx="5918400" cy="52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менклатура и классификация фермент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400 ферментов. Каждый фермент, как правило, имеет две номенклатуры; одна из них рабочая (тривиальная), а другая  -  система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наименоваие фермента составляют путем прибавления к корню слова латинского , греческого или химического названия субстрата, на который  действует фермент, или к названию процесса, катализируемого данным ферментом окончания “-аза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1100-2938-4D09-9686-81FF00BA1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щество, имеющее это окончание, принимают за фермент.  Ферменты, действующие на крахмал (amylum), сахарозу, мочевину (urea), пептиды получили соответственно названия : амилаза, сахараза, уреаза, пептидаз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названии ряда ферментов указывают как характер субстрата, так и тип катализируемой реакции. Фермент, катализирующий отнятие водорода от спирта, называют алкогольдегироген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чим названием ферментов пользуются в повседневной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8052-724A-44F2-83E5-1293AD69C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рменты, катализирующие процессы гидролиза называют гидролазами, процессы окисления  -  оксидазами, перенос групп  -  трнсферазами и т.д. Для некоторых ферментов сохранены названия, неподчиняющиеся этому правилу: пепсин, трипсин, химотрипсин пап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C003-1ADC-442F-AF00-3D3A4F518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ы ферме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сидоредукт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тализирующие окисление или восстановление - алкогольдегидроген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гидрогеназ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подкласс входят ферменты, катализирующие реакции дегидрирования (отщепления водорода). В качестве акцепторов электронов используются коферменты NAD+, NADP+, FAD, FMN . Все ферменты этой группы обладают высокой субстратной специфи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B5873p80-i1"/>
          <p:cNvPicPr/>
          <p:nvPr/>
        </p:nvPicPr>
        <p:blipFill>
          <a:blip r:embed="rId1"/>
          <a:stretch/>
        </p:blipFill>
        <p:spPr>
          <a:xfrm>
            <a:off x="684360" y="1844640"/>
            <a:ext cx="7991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дазы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цептором электрона служит молекулярный кислород. Пример реакции, катализируемой цитохромоксида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5873p80-i2"/>
          <p:cNvPicPr/>
          <p:nvPr/>
        </p:nvPicPr>
        <p:blipFill>
          <a:blip r:embed="rId1"/>
          <a:stretch/>
        </p:blipFill>
        <p:spPr>
          <a:xfrm>
            <a:off x="1332000" y="3860640"/>
            <a:ext cx="6264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сигеназы (гидроксилаз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 кислорода из молекулы кислорода присоединяется к субстрату. Пример реак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27F6-551E-46F4-9257-2621FFA02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ичная структура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ейные цепи а\к приобретают пространственную трёхмерную структуру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конформацию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ся за счёт взаимодействия функциональных групп амино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словлена первичной структурой бел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5873p80-i3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Трансфера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ализирующие перенос химических групп с одной молекулы субстрата на другую. Среди трансфераз выделяют киназы, переносящие фосфатную группу с молекулы АТФ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Гидрола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ализирующие гидролиз химических связей. Пример:  пепсин, трипсин, ами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ы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тализирующие разрыв химических связей без гидролиза с образованием двойной связи в одном из прод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мер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тализирующие структурные или геометрические изменения в молекуле субст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г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тализирующие образование химических связей между субстратами за счет гидролиза АТФ. - ДНК-полиме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F7F-9D8D-439B-AEEC-B3CDE68FE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ФАКТОРЫ И КОФЕР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ферментов для активности нуждается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молекулярных органических соединениях небелковой природы (коферментах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/или в ионах металлов (кофакторах) Zn2+, Mg2+, Mn2+, Fe2+, Cu2+, K+, Na+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86F8-C696-4645-AC09-2E838D1DE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гуляция работы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сть ферментов зависит от количе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 субст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я кофакторов и кофер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кад : продукт одной ферментативной реакции является субстратом другой, образуя таким образом "метаболические пут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DC0B-0660-4CD6-B4E0-3CFFF0839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реди множества ферментов практически каждого метаболического пути различают ключевые, или регуляторные, ферменты, активность которых может изменяться в зависимости от потребности клетки в конечном продукте метаболического пу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способы регуляции активности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лостерическая рег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 изменяет активность с помощью нековалентно связанного с ним эффек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ывание происходит в участке, пространственно удаленном от активного (каталитического) 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вязывание вызывает конформационные изменения в молекуле белка, приводящие к изменению определенной геометрии каталитического цен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может увеличиться — это активация фермента, или уменьшиться — это ингиби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гуляция активности ферментов путем фосфорилирования—дефосфорилирования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рмент изменяет активность в результате ковалентной мод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book2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FA5-F6DF-435D-9D08-D553709DA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ичная структура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ые структуры двух типов: α-спираль и β-структу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ктивация ферментов путем частичного протеоли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ферменты синтезируются первоначально неактивными и лишь после секреции из клетки переходят в актив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активный предшественник называется профермен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ация профермента включает модификацию первичной структуры с одновременным изменением ко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имер, трипсиноген, синтезированный в поджелудочной железе, затем в кишечнике превращается в трипсин путем удаления фрагмента с N—конца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гибиторы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ферментов можно полностью или частично подавить (ингибировать) химическими веществами (ингибитор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характеру действия ингибиторы могут быть обратимыми и необратимыми. - прочность соединения ингибитора с ферментом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заимодействие аспирина с ферментом простагландинсинтетаз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book2"/>
          <p:cNvPicPr/>
          <p:nvPr/>
        </p:nvPicPr>
        <p:blipFill>
          <a:blip r:embed="rId1"/>
          <a:stretch/>
        </p:blipFill>
        <p:spPr>
          <a:xfrm>
            <a:off x="611280" y="2205000"/>
            <a:ext cx="820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рапевтическое действие аспи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жаропонижающего и противовоспалительного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пирин ингибирует один из ферментов, катализирующий синтез простагландинов (ПГ). Простагландины — вещества, участвующие в развитии воспа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гибирование обусловлено ковалентной модификацией одной из аминогрупп фермента — простагландинсинтета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8C9-B366-4D62-AA4A-99E6A2188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ира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птид закручивается в виде спир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дных связи образуются между атомами кислорода карбонильных групп и атомами азота аминогруп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4 аминокислотных 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дные связи ориентированы вдоль оси спир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дин виток α-спирали приходится 3,6 аминокислотных оста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Картинка 20 из 176"/>
          <p:cNvPicPr/>
          <p:nvPr/>
        </p:nvPicPr>
        <p:blipFill>
          <a:blip r:embed="rId1"/>
          <a:stretch/>
        </p:blipFill>
        <p:spPr>
          <a:xfrm>
            <a:off x="4643280" y="1557360"/>
            <a:ext cx="4029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F72C-9111-4807-9F7B-FAA47411A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β-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ся за счёт образования водородных связей между атомами пептидных груп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β-Структура образует фигуру, подобную листу, сложенному "гармошкой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а 2 из 19"/>
          <p:cNvPicPr/>
          <p:nvPr/>
        </p:nvPicPr>
        <p:blipFill>
          <a:blip r:embed="rId1"/>
          <a:stretch/>
        </p:blipFill>
        <p:spPr>
          <a:xfrm>
            <a:off x="4932360" y="1916280"/>
            <a:ext cx="29624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4E4-9C57-401F-9121-3262BD5EF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ROT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0:34Z</dcterms:created>
  <dc:creator>Admin</dc:creator>
  <dc:description/>
  <dc:language>en-US</dc:language>
  <cp:lastModifiedBy>Пользователь</cp:lastModifiedBy>
  <dcterms:modified xsi:type="dcterms:W3CDTF">2019-05-21T08:32:43Z</dcterms:modified>
  <cp:revision>124</cp:revision>
  <dc:subject/>
  <dc:title>Слайд 1</dc:title>
</cp:coreProperties>
</file>