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C3B-F9CB-431A-B8E0-0E6559C0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8B2-10A8-4F3E-AF97-88521CCD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494-85B6-4551-B1D7-C1665576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A92-F807-4354-A8D0-F195BA4F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168-86DD-44C0-A502-3A68391E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93A-9DFB-44DA-8380-D62B5CDC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72D-99A4-43DF-BFB4-01EB6B83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240-B5A0-4DDE-B23B-AF4D911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A47-3C0F-4C43-8C58-EDB64A01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623-D367-4535-B778-C6D7EDE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F8A-44B1-4969-86DC-A36A719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127-0E00-4763-BCDF-393ACF4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30BC-B7E2-4115-B48F-C54A2256C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рбитальное квантовое чи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геометрическую форму орбитали. Принимает значение целых чисел от 0 до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1). Независимо от номера энергетического уровня, каждому значению орбитального квантового числа соответствует орбиталь особой формы. Набор орбиталей с одинаковыми значениями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называется энергетическим уровнем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аковыми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подуров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ень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– орбиталь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ень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– орбиталь ган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ень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– орбиталь слож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уровень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рбиталь – орбиталь еще более слож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энергетическом уровн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1) орбитальное квантовое число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нимает единственное значение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1) = 0. Форма обитали - сферическая; на первом энергетическом только один подуровень -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ля второго энергетического уров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2) орбитальное квантовое число может принимать два значения: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0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- сфера большего размера, чем на первом энергетическом уровне;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  1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- гантель. Таким образом, на втором энергетическом уровне имеются два подуровня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ля третьего энергетического уров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3) орбитальное квантовое число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нимает три значения: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0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- сфера большего размера, чем на втором энергетическом уровне;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1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- гантель большего размера, чем на втором энергетическом уровне;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2,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ь сложн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на третьем энергетическом уровне могут быть три энергетических подуровня -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гнитное квантов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характеризует положение электронной орбитали в пространстве и принимает целочисленные значения от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до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ключая 0. Это означает, что для каждой формы орбитали существует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+ 1) энергетически равноценных ориентаци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0) такое положение одно и соответствует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0. Сфера не может иметь разные ориентаци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1) - три равноценные ориентации в пространстве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+ 1 = 3):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-1, 0, 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битал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2) - пять равноценных ориентаций в пространстве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+ 1 = 5):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= -2, -1, 0, +1, +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на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не - одна, на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не - три, на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не - пять, на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дуровне - 7 орби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пиновое квантовое числ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магнитный момент, возникающий при вращении электрона вокруг своей оси. Принимает только два значения +1/2 и –1/2 соответствующие противоположным направлениям вра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ы заполнения орбита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                 Принцип Паули. В атоме не может быть двух электронов, у которых значения всех квантовых чисел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были бы одинаковы, т.е. на каждой орбитали может находиться не более двух электрон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ротивоположными спин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                  Правило Клечковского (принцип наименьшей энергии). В основном состоянии каждый электрон располагается так, чтобы его энергия была минимальной. Чем меньше сумм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+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тем меньше энергия орбитали. При заданном значении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+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наименьшую энергию имеет орбиталь с меньшим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нергия орбиталей возрастает в р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&lt; 2s &lt; 2p &lt; 3s &lt; 3p &lt; 4s &lt; 3d &lt; 4p &lt; 5s &lt; 4d &lt; 5p &lt; 6s &lt; 5d » 4f &lt; 6p &lt; 7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                  Правило Хунда. Атом в основном состоянии должен иметь максимально возможное число неспаренных электронов в пределах определенного под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электронная формула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, отражающая распределение электронов в атоме химического элемента по энергетическим уровням и подуровням, называется электронной конфигурацией этого атома. В основном (невозбужденном) состоянии атома все электроны удовлетворяют принципу минимальной энергии. Это значит, что сначала заполняются подуровни, для которы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    Главное квантовое число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миним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    Внутри уровня сначала заполняется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ровень, затем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 лишь затем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минима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    Заполнение происходит так, чтоб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+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было минимально (правило Клечковск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    В пределах одного подуровня электроны располагаются таким образом, чтобы их суммарный спин был максимален, т.е. содержал наибольшее число неспаренных электронов (правило Хун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    При заполнении электронных атомных орбиталей выполняется принцип Паули. Его следствием является, что энергетическому уровню с номером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может принадлежать не более чем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 электронов, расположенных на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 под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ная электронная формула эле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зий (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ходится в 6 периоде, его 55 электронов (порядковый номер 55) распределены по 6 энергетическим уровням и их подуровням.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юдая последовательность заполнения электронами орбиталей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Cs 1s2 2s2 2p6 3s2 3p6 4s2 4p6 4d10 5s2 5p6 5d10 6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заимодействия, приводящие к объединению химических частиц (атомов, молекул, ионов и т. п.) в вещества делятся на химические связи и межмолекулярные связи (межмолекулярные взаимодейств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ие связи - связи непосредственно между атомами. Различают ионную, ковалентную и металлическую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молекулярные связи - связи между молекулами. Это водородная связь, ион-дипольная связь (за счет образования этой связи происходит, например, образование гидратной оболочки ионов), диполь-дипольная (за счет образования этой связи объединяются молекулы полярных веществ, например, в жидком ацетоне)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онная связь - химическая связь, образованная за счет электростатического притяжения разноименно заряженных ионов. В бинарных соединениях (соединениях двух элементов) она образуется в случае, когда размеры связываемых атомов сильно отличаются друг от друга: одни атомы большие, другие маленькие - то есть одни атомы легко отдают электроны, а другие склонны их принимать (обычно это атомы элементов, образующих типичные металлы и атомы элементов, образующих типичные неметаллы); электроотрицательность таких атомов также сильно отли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онная связь ненаправленная и не насыщае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нтная связь - химическая связь, возникающая за счет образования общей пары электронов. Ковалентная связь образуется между маленькими атомами с одинаковыми или близкими радиусами. Необходимое условие - наличие неспаренных электронов у обоих связываемых атомов (обменный механизм) или неподеленной пары у одного атома и свободной орбитали у другого (донорно-акцепторный механизм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· + ·H  H: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-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дна общая пара электронов; H одноваленте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ри общие пары электронов; N трехваленте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-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дна общая пара электронов; H и F одновалентн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H4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етыре общих пары электронов; N четырехвалент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 — это наименьшая частица химического элемента, сохраняющая все его химические сво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 состоит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, имеющего положительный электрический за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ицательно заряженных электро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ллическая связ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ая связь, образованная за счет обобществления валентных электронов всех связываемых атомов металлического кристалла. В результате образуется единое электронное облако кристалла, которое легко смещается под действием электрического напряжения - отсюда высокая электропроводность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ическая связь образуется в том случае, когда связываемые атомы большие и потому склонны отдавать электроны. Простые вещества с металлической связью - металлы (Na, Ba, Al, Cu, Au и др.), сложные вещества - интерметаллические соединения (AlCr2, Ca2Cu, Cu5Zn8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ическая связь не обладает направленностью насыщаемостью. Она сохраняется и в расплавах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дная связь - межмолекулярная связь, образованная за счет частичного акцептирования пары электронов высокоэлектроотрицательнного атома атомом водорода с большим положительным частичным зарядом. Образуется в тех случаях, когда в одной молекуле есть атом с неподеленной парой электронов и высокой электроотрицательностью (F, O, N), а в другой - атом водорода, связанный сильно полярной связью с одним из таких атомов. Примеры межмолекулярных водородных связ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—O—H ··· OH2, H—O—H ··· NH3, H—O—H ··· F—H, H—F ··· H—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молекулярные водородные связи существуют в молекулах полипептидов, нуклеиновых кислот, белк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й прочности любой связи является энергия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я связи - энергия необходимая для разрыва данной химической связи в 1 моле вещества. Единица измерений - 1 кДж/м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и ионной и ковалентной связи - одного порядка, энергия водородной связи - на порядок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я ковалентной связи зависит от размеров связываемых атомов (длины связи) и от кратности связи. Чем меньше атомы и больше кратность связи, тем больше ее энер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я ионной связи зависит от размеров ионов и от их зарядов. Чем меньше ионы и больше их заряд, тем больше энергия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дрофобные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образования ориентированного окружения вокруг называется гидратацией или сольватацией. Небольшие полярные молекулы при малых концентрациях могут растворяться в воде. Они размещаются в пустых промежутках между молекулами воды. Такая растворимость резко уменьшается при увеличении размеров молекул , кот. Не могут войти в пустоты. Взаимодействие неполярных молекул с молекулами воды слабее, чем взаимодействие молекул воды др с др. внедрение больших молекул в воду должно привести к разрыву водородных связей, что энергетически не выгодно и молекула выталкивается из воды подобно маслу. Считается, что молекула выталкивается под воздействием гидрофобных взаимо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характеристики электр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ковалентн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ионн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определение понятию гидрофо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суспен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зготовлении устойчивых суспензий важно знать отношение вещества к дисперсионн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личают веществ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дрофильные, они хорошо смачиваются водой (краевой угол смачивания меньше 45°). При полном смачивании капля жидкости полностью растекается в тонкую пленку по поверхности твердого вещества. К гидрофильным веществам относят крахмал, магния оксид и карбонат, кальция карбонат и глицерофосфат, глюкоз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Объект 5" descr=""/>
          <p:cNvPicPr/>
          <p:nvPr/>
        </p:nvPicPr>
        <p:blipFill>
          <a:blip r:embed="rId1"/>
          <a:srcRect l="0" t="0" r="57316" b="0"/>
          <a:stretch/>
        </p:blipFill>
        <p:spPr>
          <a:xfrm>
            <a:off x="4648320" y="1773360"/>
            <a:ext cx="35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резко гидрофоб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раевым углом смачивания водой менее 90 °, но более 45°. К таким веществам относят тальк, краевой угол смачивания которого 69°, серу — 78°, сульфомонометоксин ~81°, сульфодиметоксин -83°, а также терпингидрат, фенилсалицилат, этазол, фталаз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5" descr=""/>
          <p:cNvPicPr/>
          <p:nvPr/>
        </p:nvPicPr>
        <p:blipFill>
          <a:blip r:embed="rId1"/>
          <a:srcRect l="39127" t="0" r="37698" b="0"/>
          <a:stretch/>
        </p:blipFill>
        <p:spPr>
          <a:xfrm>
            <a:off x="5508720" y="220500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дрофоб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 краевым углом смачивания водой менее 180°, Но более 90° Например, парафин (106°). К гидрофобным веществам относят ментол, тимол, камф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Объект 5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0067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ульсии — микрогетерогенные системы. Размеры капель жидкости в эмульсиях колеблются от 0,1 до 50 мкм. В качестве дисперсной фазы может быть не только жидкость, но и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химических реакциях ядра атомов остаются без изменений, изменяется лишь строение электронных оболочек вследствие перераспределения электронов между ато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ю атомов отдавать или присоединять электроны определяются его химические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мульсиях при хранении возможна коалесценция — процесс укрупнения и слияния капелек дисперсной фазы (потеря агрегативной устойчивости). Под агрегативной устойчивостью эмульсий, как и растворов защищенных коллоидов и суспензий, понимают способность дисперсной фазы (капелек жидкости или пузырьков газа) как можно дольше сохранять равномерное распределение в дисперсной сре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лиянии капелек фазы в сплошной слой эмульсия расслаивается — разделяется на два несмешивающихся слоя и при взбалтывании не восстанавливается (потеря агрегативной и кинетической устойчивос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 имеет двойственную (корпускулярно-волновую) природу. Благодаря волновым свойствам электроны в атоме могут иметь только строго определенные значения энергии, которые зависят от расстояния до яд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ы, обладающие близкими значениями энергии образуют энергетический уровень. Он содержит строго определенное число электронов - максимально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етические уровни подразделяются на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,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,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уровни; их число равно номеру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g002"/>
          <p:cNvPicPr/>
          <p:nvPr/>
        </p:nvPicPr>
        <p:blipFill>
          <a:blip r:embed="rId1"/>
          <a:stretch/>
        </p:blipFill>
        <p:spPr>
          <a:xfrm>
            <a:off x="2771640" y="198900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mg003"/>
          <p:cNvPicPr/>
          <p:nvPr/>
        </p:nvPicPr>
        <p:blipFill>
          <a:blip r:embed="rId1"/>
          <a:stretch/>
        </p:blipFill>
        <p:spPr>
          <a:xfrm>
            <a:off x="971640" y="1989000"/>
            <a:ext cx="6553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g004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нтовые числа электр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каждого электрона в атоме обычно описывают с помощью четырех квантовых чисел: глав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орбиталь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магнит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спинов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Первые три характеризуют движение электрона в пространстве, а четвертое - вокруг собственной о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лавное квантовое числ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энергетический уровень электрона, удаленность уровня от ядра, размер электронного облака. Принимает целые значени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1, 2, 3 ...) и соответствует номеру периода. Из периодической системы для любого элемента по номеру периода можно определить число энергетических уровней атома и какой энергетический уровень является внеш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кадмий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расположен в пятом периоде, значит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5. В его атоме электроны 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ены по пяти энергетическим уровня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1,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2,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3,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4,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5); внешним будет пятый уровен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=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8:02:08Z</dcterms:created>
  <dc:creator>Анна</dc:creator>
  <dc:description/>
  <dc:language>en-US</dc:language>
  <cp:lastModifiedBy>Анна</cp:lastModifiedBy>
  <dcterms:modified xsi:type="dcterms:W3CDTF">2022-02-04T11:24:49Z</dcterms:modified>
  <cp:revision>37</cp:revision>
  <dc:subject/>
  <dc:title>Строение атома</dc:title>
</cp:coreProperties>
</file>