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5C96-4A2F-4467-BF65-DA8C6C71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3EDB-7AC9-4A11-B784-98AE1D76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59B1-5AF8-4E16-A76D-0DF3183A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D621-7B0D-40F0-8475-A235983D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8BD2-960E-403E-A30E-665C2BD6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F48C-EC9D-465F-B45D-43B66680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E08A-BF28-4C26-826C-CFBEA485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68FF-5C6A-4FCB-AB32-0636A3D2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02D2-4539-4AFB-9121-EB210294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0D5B-EA87-477E-BE8D-E9B92C69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C361-2E26-4AB7-9614-919542CF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236-4245-4E09-B113-FC6D5EDA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519F-3318-497A-BEF7-6BCACE772C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абораторная №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мические свойства алке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леводороды в экосистем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кци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дет легко с хлором, несколько труднее с бромом и труднее всего с иод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еакция с бромом очень удобна для качественного и количественного определения непредельных соединений; при взаимодействии их с бромом или его растворами (обычно применяют бромную воду – раствор брома в воде) бурая окраска этих реагентов мгновенно исчезает. Для этой цели можно применять и окрашенные в коричневый цвет растворы и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та реакция лежит в основе определения непредельных жиров и масел. (Так, представление о содержании непредельных кислот в масле дает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одное число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 количество граммов иода, которое может присоединяться 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 соблюдении стандартных условий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к непредельным кислотам в 100 г жира. Для большинства жиров и растительных масел иодное число 30-150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исоединение галогеноводородов (гидрогалогенирова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действии на этиленовые углеводороды галогеноводородов также идет реакция присоединения, но образуются моногалогенпроизводные предельных углеводоро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Легко присоединяется иодистый водород, труднее бромистый и наиболее трудно – хлористый водород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реакции иодистого водорода с этиленом безразлично, к которому из атомов углерода, соединенных двойной связью, присоединяется водород, а к которому галоген, т.к. оба углеродных атома равноцен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шите реакцию гидрогалогенирования эти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оценность их видна, поскольку каждый соединен с двумя водородными атомами. Если  же углеродные атомы, соединенные двойной связью, не одинаковы по числу связанных с ними атомов водорода, то галогенводород взаимодействует  с непредельным углеводородом с определенной закономерность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дород из молекулы галогеноводорода присоединяется преимущественно к тому углероду по месту двойной связи, при котором имеется больше атомов водорода (к наиболее гидрогенизированному), а галоген – к углероду, при котором меньше или совсем нет атомов водоро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авило В.В. Марковнико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шите реакцию гидрогалогенирования пропилена и бутилена, пользуясь правилом Марковни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исоединение воды (реакция гидратации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бычных условиях этиленовые углеводороды не реагируют с водой, н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 нагревании в присутствии катализатор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хлористый цинк, серная кислота) элементы воды (водород и гидроксил) присоединяются к углеродным атомам по месту двойной связи с образованием спир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32308_html_34d1e7c4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менкл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image144"/>
          <p:cNvPicPr/>
          <p:nvPr/>
        </p:nvPicPr>
        <p:blipFill>
          <a:blip r:embed="rId1"/>
          <a:stretch/>
        </p:blipFill>
        <p:spPr>
          <a:xfrm>
            <a:off x="1116000" y="1628640"/>
            <a:ext cx="65516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гомологами этилена реакция протекает по правилу Марковникова: водород воды присоединяется преимущественно к тому углероду, при котором больше атомов водорода, а гидроксил – к тому углероду, при котором атомов водорода меньше или нет совс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Реакция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висимости от условий непредельные углеводороды окисляются в различной степени. При высоких температурах они сгорают, образуя С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Н2О. Некоторые медленно окисляются кислородом воздуха уже при обыкновенной температуре. Обычно окисление происходит прежде всего по месту двойной связи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дной из наиболее характерных реакций окисления является взаимодействие непредельных углеводородов с раствором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MnO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реакция Е.Е. Вагнера, 1886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каны и алкены как загрязнители сре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деградация - комплекс методов очистки вод, грунтов и атмосферы с использованием метаболического потенциала биологических объектов -- растений, грибов, насекомых, червей и других организ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ритетными загрязнителями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ефть и нефтепродук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тяжелые металлы и радионуклид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естицид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хлорорганические соедин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личные соединения ароматического ряда (фенолы, ксил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мологический ряд алкенов. Строение двойной связи (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2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бридизац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о Марковникова (проиллюстрируйте химической реакци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Международная заместительная номенклатур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заместительной номенклатуре этиленовые углеводороды называют, руководствуясь теми ж принципами, что и при наименовании предельных углеводородов; наличие двойной связи обозначают, заменив в международном названии предельного углеводорода окончание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на 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Поэтому углеводороды с двойной связью по международной номенклатуре объединяют общим названием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лке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отразить в названии положение двойной связи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еред наименованием основы (главной цепи) соединения ставят цифру, обозначающую номер того углеродного атома, за которым следует кратная (двойная) связ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качестве главной цепи выбирают  такую наиболее длинную и наиболее разветвленную углеродную цепь, которая включает атомы углерода, соединенные кратной связью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умерацию атомов главной цепи начинают с того конца, к которому ближе кратная связ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Если же  непредельный углерод имеет боковые цепи, а кратная связь находится в середине главной цепи, последнюю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умеруют с того конца, к которому ближе простейшие боковые ответвления или с той стороны, где разветвлений больш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шите структурные формулы алкенов до С=8. Назовите изображенные соединения согласно требованиям номенкл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исоединение водорода (реакция гидрирования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действии на этиленовые углеводороды водорода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присутствии катализаторов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томы водорода легко присоединяются к углеродным атомам, соединенным двойной связью, которая при этом разрывается и на ее месте сохраняется простая связ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зультате гидрирования образуются предельные углеводороды. Гидрирование непредельных углеводородов – важный способ получения углеводородов ряда мета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оединение водорода по месту кратных связей вообще имеет большое практическое значение для превращения непредельных соединений различных классов в предельные. Так, гидрирование применяют в промышленности при получении твердых жиров из жидких растительных масе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исоединение галогенов (галогенирование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действии на этиленовые углеводороды галогенов в результате присоединения их по месту двойной связи образуются дигалогенпроизводные предельных углеводородов с атомами галогена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и соседних углеродных атомах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img13"/>
          <p:cNvPicPr/>
          <p:nvPr/>
        </p:nvPicPr>
        <p:blipFill>
          <a:blip r:embed="rId1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0T18:19:27Z</dcterms:created>
  <dc:creator>Анна</dc:creator>
  <dc:description/>
  <dc:language>en-US</dc:language>
  <cp:lastModifiedBy>Анна</cp:lastModifiedBy>
  <dcterms:modified xsi:type="dcterms:W3CDTF">2022-02-04T11:53:25Z</dcterms:modified>
  <cp:revision>22</cp:revision>
  <dc:subject/>
  <dc:title>Слайд 1</dc:title>
</cp:coreProperties>
</file>